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4DF-FB3E-4917-9E00-65657A58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411-97C0-4353-802C-F16EC42A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97E-685A-4CA5-8249-53889E7E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23F-ED4A-4EC3-B8EB-8D8AD191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1392-E78E-477F-ABFF-A5E54CD5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8ED4-261A-419C-B297-BAEC9198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2906-A5A7-434E-B3F7-F72C1EF2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A56D-346A-44B7-9887-41BB780A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A518-CE50-4FD7-98B3-485D1B32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795A-7BB6-4D40-BA1C-ED83D16A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D7C0-B103-49CC-8AB3-059763F0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83E-7E4E-4FFE-9B11-C87C741C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C474-183E-4437-96A9-36A42A3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F068-0AB8-4397-9203-4D952CD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B897-3281-4C6D-A19A-EB4A1621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1D01-72C4-4DD2-8E7E-2AE25722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9CB0-886A-416B-AEF7-B4DC0E3F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A16-413F-4A70-84FC-A7BD3FAE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A2A-C1BF-46F5-BCFD-ED4C0309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F87-A2E3-497E-855B-C0D0AA2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932-070D-4177-A9B9-968CAD95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8C7-7A5A-4A55-B28E-AC98F85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6BC-A7FB-42FF-B17D-ECA2D17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FDA-49E8-412F-A6DC-B468BD8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F910-88CD-4378-9C0B-50DC9C3958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5497-A5D1-400C-AB4C-E3DE950929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Εξέλιξη της επικοινωνίας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λέξανδρος Ηλιόπουλος Α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Κέβιν Σακάης Α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Σηματοφόροι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2374920"/>
            <a:ext cx="2736720" cy="2979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08000" y="1341360"/>
            <a:ext cx="504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ηχανή με κινητούς βραχίονες που μπορούσε να μεταβιβάσει σήματ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Οι διάφορες θέσεις των βραχιόνων αντιπροσώπευαν τα σήματα που μεταβιβάζονταν από σηματοφόρο σε σηματοφόρο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Ύστερα από πολλές δοκιμές και απογοητεύσεις οι Γάλλοι αδερφοί Ignace και Claude Chappe συνέδεσαν τις πόλεις Παρίσι και Λιλ (απόσταση 300 χλμ.) με 22 σταθμούς αναμετάδοσης το 1794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σύστημα αυτό χρησιμοποιήθηκε με διάφορες παραλλαγές σε όλη σχεδόν την Ευρώπη στις αρχές του 19ου αιών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545080" cy="4032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ηλέγραφο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ηλέγραφο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Είναι το μέσο που έφερε την επανάσταση στις τηλεπικοινωνίες. Πολύ ταχύτερο και πολύ πιο αξιόπιστο από όλα τα προηγούμεν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ε τον τηλέγραφο αξιοποιήθηκαν αποδοτικά οι ιδιότητες του ηλεκτρισμού. Ο τηλέγραφος δημιουργεί ηλεκτρικές μεταβολές που προκαλούνται από τον αποστολέα. Οι μεταβολές μεταφέρονται στον αποδέκτη όπου και μετατρέπονται σε κατανοητά σήματ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ρεις παράγοντες συντέλεσαν στην ανάπτυξη του τηλέγραφου: Η ανακάλυψη των ιδιοτήτων του ηλεκτρισμού, η τεχνολογική δυνατότητα παραγωγής χάλκινων αγωγών μεγάλου μήκους και οι ανάγκες των σιδηροδρόμων που διέθεταν οικονομική δυνατότητα να χρηματοδοτήσουν εφευρέτε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εταξύ των πολλών έξυπνων ιδεών και εφαρμογών ξεχωρίζουν οι επινοήσεις των Cooke - Wheatstone και Morse, οι οποίοι με τις αντίστοιχες επιχειρήσεις που ίδρυσαν στις χώρες τους έθεσαν τις βάσεις τις τηλεγραφία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δημόσιο ενδιαφέρον για το μέσο ενεργοποιήθηκε όταν κάποιοι είδαν το δολοφόνο μιας γυναίκας να επιβιβάζεται σε τρένο με προορισμό το Λονδίνο και η τηλεγραφική ειδοποίηση οδήγησε στη σύλληψή το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ecff"/>
                </a:solidFill>
                <a:latin typeface="Arial"/>
              </a:rPr>
              <a:t>Τηλέγραφος Cooke - Wheatston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56000" y="1052640"/>
            <a:ext cx="460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Στην Αγγλία το 1837 ο William Cooke, απόστρατος τού Στρατού των Ινδιών, και ο Charles Wheatstone, καθηγητής του King's College επινόησαν δύο τηλεγραφικές συσκευές για τους σιδηρόδρομου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Η πρώτη συσκευή χρησιμοποιούσε πέντε βελόνες και ήταν απλή στη χρήση, ενώ η δεύτερη που χρησιμοποιούσε δύο είχε πολύ μικρότερες απαιτήσεις σε αγωγούς σύνδεση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σύστημα των Cooke - Wheatstone χρησιμοποιήθηκε ευρύτατα στους σιδηρόδρομους. Αργότερα (1848) ο Wheatstone κατασκεύασε τον τηλέγραφο "ABC" που χρειαζόταν ένα μόνο σύρμα (επιστροφή με γείωση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56400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ecff"/>
                </a:solidFill>
                <a:latin typeface="Arial"/>
              </a:rPr>
              <a:t>Τηλέγραφος Mors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Ο Samuel Morse (1791-1872) γεννήθηκε στο Charlestown της Μασσαχουσέτης και σπούδασε στο Πανεπιστήμιο του Yale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Ήταν καλλιτέχνης προσωπογράφος και το ενδιαφέρον του για τα συστήματα τηλεπικοινωνιών γεννήθηκε από τις επαφές και τα ταξίδια του στην Ευρώπη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Επινόησε συσκευή με την οποία έστειλε το πρώτο τηλεγραφικό σήμα στις ΗΠΑ (1837), και εφεύρε τον κώδικα Morse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Βοηθήθηκε από τον φημισμένο Joseph Henre και τον νεαρό μηχανικό Alfred Vail, στον οποίο οφείλεται και η αντιστοιχία των σημάτων Morse με τους χαρακτήρες (γράμματα)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ε ταχύτητες 20 περίπου λέξεων το λεπτό, ο τηλέγραφος Morse έγινε το πλέον διαδεδομένο τηλεγραφικό σύστημα στον κόσμο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όνο στις ΗΠΑ, έως το 1866, η Western Union Telegraph είχε εγκαταστήσει 120.000 χιλιόμετρα τηλεγραφικές γραμμέ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ccecff"/>
                </a:solidFill>
                <a:latin typeface="Arial"/>
              </a:rPr>
              <a:t>Τηλέγραφος Mor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473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ηλέφωνο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Συσκευή που επιτρέπει την άμεση επικοινωνία με χρήση της φωνή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ια από τις σημαντικότερες εφευρέσεις στην ιστορία της ανθρωπότητας. Εκμηδένισε τις αποστάσεις και επέδρασε στην οικονομική και κοινωνική ζωή των ανθρώπων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1876 ο Alexander Graham Bell στην παγκόσμια έκθεση της Φιλαδέλφειας των Η.Π.Α. παρουσίασε για πρώτη φορά την τελειοποιημένη κατασκευή του σε ένα αδιάφορο κοιν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74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ηλεφωνικά κέντρα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Εξυπηρετούν τις ανάγκες διασύνδεσης πολλών τηλεφώνων μεταξύ τους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Από το 1880 και για πολλά χρόνια λειτούργησαν χειροκίνητα κέντρ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1889 ο Almon Strowger, στο Κάνσας των Η.Π.Α., επινόησε το πρώτο ηλεκτρομηχανικό σύστημα διασύνδεσης (ζεύξης)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α αυτόματα ηλεκτρομηχανολογικά κέντρα εξελίχθηκαν στη συνέχεια στα αυτόματα ηλεκτρονικά κέντρ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52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Δορυφόροι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Η χρήση δορυφόρων στις τηλεπικοινωνίες επέτρεψε την εύκολη διασύνδεση απομακρυσμένων περιοχών της υδρογείου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Κατήργησε την ανάγκη χρήσης συρμάτινων αγωγών τεραστίου μήκους ή την χρήση πολλών και ισχυρών επίγειων αναμεταδοτών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Ο πρώτος τηλεπικοινωνιακός δορυφόρος εκτοξεύτηκε από τη NASA στις 12 Αυγούστου 1960  ήταν ο ECHO 1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87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Οπτικές ίνε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356000" y="1052280"/>
            <a:ext cx="433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Οι οπτικές ίνες επέτρεψαν τη μεταφορά του φωτός λέιζερ που είναι ικανό να μεταδώσει μεγάλο όγκο πληροφοριών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Το 1966 διαπιστώθηκε ότι οπτικές ίνες από γυαλί ήταν κατάλληλοι κυματοδηγοί φωτεινής ακτινοβολίας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Το 1970 παρήχθη οπτική ίνα για πρακτικές εφαρμογές. Η εξέλιξη των οπτικών ινών ακολουθεί την εξέλιξη των υλικών και ιδιαίτερα την ελαχιστοποίηση της απόσβεσης που προκαλούν στο φως που τις διαρρέει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Μια οπτική ίνα μπορεί να εξυπηρετήσει χιλιάδες τηλεφωνικά κυκλώματα και έτσι ισοδυναμεί με εκατοντάδες χάλκινους αγωγούς, ενώ ταυτόχρονα υπερτερεί και στην ποιότητα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598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Αγγελιοφόροι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Μεταφορά προφορικών και γραπτών μηνυμάτων με δρομείς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Ήταν πολύ συνηθισμένη μέθοδος στην αρχαία Ελλάδα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Πολύ γνωστός αγγελιοφόρος είναι ο Φειδιππίδης που μετέφερε το μήνυμα της νίκης των Ελλήνων κατά των Περσών από τον Μαραθώνα στην Αθήνα.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Στην Ελληνική μυθολογία ο Ερμής θεωρείτο ο αγγελιοφόρος των Θεών του Ολύμπο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5600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</a:rPr>
              <a:t>Τηλεεφαρμογέ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Η εξάπλωση των τηλεπικοινωνιακών δικτύων, η αυτοματοποίηση και μηχανογράφηση πολλών εργασιών με τη διάδοση των Η/Υ καθώς και το υψηλό κόστος αγοράς ή ενοικίασης γραφείων στα κέντρα των μεγαλουπόλεων, δημιούργησε νέα εργασιακά καθεστώτα.</a:t>
            </a:r>
            <a:br>
              <a:rPr sz="1800"/>
            </a:b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Ο υπάλληλος μιας εταιρείας, έχοντας τον κατάλληλο εξοπλισμό, μπορεί πλέον να εργάζεται στο σπίτι του, στον ηλεκτρονικό του υπολογιστή και να επικοινωνεί με την εταιρεία του μέσω δικτύου. Ο έλεγχος πολλών συσκευών και εγκαταστάσεων μπορεί να γίνει από απόσταση, χωρίς να είναι απαραίτητη η συνεχής ύπαρξη ανθρώπων στις εγκαταστάσεις αυτέ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527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Φρυκτωρίε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Οι φρυκτωρίες αποτέλεσαν μέσο που χρησιμοποιήθηκε για την ανάπτυξη συστήματος μεταβίβασης φωτεινών σημάτων στην περιοχή της αρχαίας Ελλάδας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Ήταν εγκατεστημένες σε προνομιακές, λόγω θέσης, κορυφές βουνών. Το άναμμα της πρώτης φρυκτωρίας ακολουθούσαν διαδοχικά οι υπόλοιπες, συγκροτώντας έτσι μία γραμμή επικοινωνίας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Χρησιμοποιήθηκαν για στρατιωτικούς κυρίως σκοπούς από την εποχή του Τρωϊκού Πολέμου έως τους βυζαντινούς χρόνους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Τα μηνύματα ήταν προσυμφωνημένα και περιορισμέν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Φρυκτωρίε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27400" y="1600200"/>
            <a:ext cx="4487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ecff"/>
                </a:solidFill>
                <a:latin typeface="Arial"/>
              </a:rPr>
              <a:t>Πυρσίες</a:t>
            </a:r>
            <a:br>
              <a:rPr sz="4000"/>
            </a:br>
            <a:r>
              <a:rPr b="0" lang="el-GR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Η μέθοδος σηματοδότησης που επινόησαν οι Αλεξανδρινοί τεχνικοί Κλεοξένης και Δημόκλειτος το 150 π.Χ. θα μπορούσε να θεωρηθεί ο πρώτος οπτικός τηλέγραφος που αναφέρεται στην ιστορία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Το σύστημα αποτελούνταν από δύο ομάδες πυρσών. Συνδυασμοί αναμμένων πυρσών αντιστοιχούσαν στα διάφορα γράμματα. Το μήνυμα ήταν πλήρες, μπορούσε όμως να γίνει διακριτό σε μικρές σχετικά αποστάσει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3646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Υδραυλικός τηλέγραφος του Αινεία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Επινοήθηκε τον 4ο π.Χ αιώνα από τον Αρκάδα στρατηγό Αινεία τον Τακτικό. Η συσκευή και ο κώδικας επικοινωνίας παρείχαν ακρίβεια και περιεκτικότητα περιεχομένου.</a:t>
            </a:r>
            <a:br>
              <a:rPr sz="2000"/>
            </a:br>
            <a:r>
              <a:rPr b="0" lang="el-GR" sz="2000" spc="-1" strike="noStrike">
                <a:solidFill>
                  <a:srgbClr val="ffcc66"/>
                </a:solidFill>
                <a:latin typeface="Verdana"/>
              </a:rPr>
              <a:t>Μειονεκτούσε στην ταχύτητα μετάδοσης. Στηριζόταν στο συγχρονισμό πομπού - δέκτη. Η έννοια του συγχρονισμού κυριαρχεί και στα σύγχρονα τηλεπικοινωνιακά συστήματ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384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αχυδρομικά περιστέρια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Verdana"/>
              </a:rPr>
              <a:t>Χρησιμοποιήθηκαν για να μεταφέρουν γραπτά μηνύματα.</a:t>
            </a:r>
            <a:br>
              <a:rPr sz="2200"/>
            </a:br>
            <a:r>
              <a:rPr b="0" lang="en-US" sz="2200" spc="-1" strike="noStrike">
                <a:solidFill>
                  <a:srgbClr val="ffcc66"/>
                </a:solidFill>
                <a:latin typeface="Verdana"/>
              </a:rPr>
              <a:t>Τα ταχυδρομικά περιστέρια έχουν αλάνθαστο ένστικτο, μεγάλη μνήμη και εξαιρετική ικανότητα προσανατολισμού. Ύστερα από προσεκτική εκπαίδευση μπορούν να χρησιμοποιηθούν σε μεγάλες αποστάσεις (1,000 χιλιόμετρα). Αναπτύσσουν ταχύτητα μέχρι 55 χιλιόμετρα την ώρα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42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Ταμ ταμ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Χρησιμοποιήθηκε κυρίως από αρχαίες Αφρικανικές φυλές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Ο βαρύς ήχος των τυμπάνων μετέφερε το μήνυμα από τυμπανιστή σε τυμπανιστή.</a:t>
            </a:r>
            <a:br>
              <a:rPr sz="2400"/>
            </a:br>
            <a:r>
              <a:rPr b="0" lang="el-GR" sz="2400" spc="-1" strike="noStrike">
                <a:solidFill>
                  <a:srgbClr val="ffcc66"/>
                </a:solidFill>
                <a:latin typeface="Verdana"/>
              </a:rPr>
              <a:t>Σε αντίθεση με τις "οπτικές" μεθόδους υπήρχε η δυνατότητα αποστολής και λήψης μηνυμάτων σε όλη τη διάρκεια του εικοσιτετράωρο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85680" y="2784600"/>
            <a:ext cx="2979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Σήματα καπνού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1280" y="980640"/>
            <a:ext cx="44751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Χρησιμοποιήθηκαν από τους ιθαγενείς ινδιάνους της Αμερικής.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Με τη βοήθεια κουβέρτας που σκέπαζε και αποκάλυπτε την εστία της φωτιάς δημιουργούνταν σύννεφα καπνού.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Με τα σήματα καπνού ο παρατηρητής είχε περιορισμένη αλλά εξαιρετικής σημασίας πληροφόρηση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3829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9:18:21Z</dcterms:created>
  <dc:creator>user2</dc:creator>
  <dc:description/>
  <dc:language>en-US</dc:language>
  <cp:lastModifiedBy>user2</cp:lastModifiedBy>
  <dcterms:modified xsi:type="dcterms:W3CDTF">2011-12-21T08:39:04Z</dcterms:modified>
  <cp:revision>7</cp:revision>
  <dc:subject/>
  <dc:title>Εξέλιξη της επικοινωνίας</dc:title>
</cp:coreProperties>
</file>